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D17-A5E5-41F2-9A50-55AFC82B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04E-AECD-4CBF-962B-73C8F65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EF9-256E-48BC-AB4D-6A18A823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DC1-1A40-42BB-B082-5C0179EC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20C-43BF-4CC4-BA0F-B105E9C6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C40-3A2B-40A4-9C93-029B6604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84C-988E-47EA-9BA8-A1F4DE6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BE5-6B55-4A76-B181-D9DAB45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C7B-D54A-43BC-BE4C-CBE2ED0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A51-3140-4013-80C5-3B30151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0F3-25F6-47E8-B5C7-7354463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CCF-C2F7-43FB-8356-9064531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794-A5CB-4571-B661-04E086BEFB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支持文档排序的检索系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支持文档排序的检索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次实验课内完成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-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最迟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日提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输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万个文档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个至少包含两个关键词的查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所有关键词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值（不存在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f=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查询结果（界面输出文档名列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档内容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0000"/>
                </a:solidFill>
                <a:latin typeface="Calibri"/>
              </a:rPr>
              <a:t>按照相似度从高到低排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0000"/>
                </a:solidFill>
                <a:latin typeface="Calibri"/>
              </a:rPr>
              <a:t>输出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Top10</a:t>
            </a:r>
            <a:r>
              <a:rPr b="0" lang="zh-CN" sz="1500" spc="-1" strike="noStrike">
                <a:solidFill>
                  <a:srgbClr val="ff0000"/>
                </a:solidFill>
                <a:latin typeface="Calibri"/>
              </a:rPr>
              <a:t>的文档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0000"/>
                </a:solidFill>
                <a:latin typeface="Calibri"/>
              </a:rPr>
              <a:t>文档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ID</a:t>
            </a:r>
            <a:r>
              <a:rPr b="0" lang="zh-CN" sz="1300" spc="-1" strike="noStrike">
                <a:solidFill>
                  <a:srgbClr val="ff0000"/>
                </a:solidFill>
                <a:latin typeface="Calibri"/>
              </a:rPr>
              <a:t>；相似度；文档内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f-idf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计算权重，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ine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计算相似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要求做词条变化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iends -&gt; frien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等，直接用空格作为分割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都转成小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-&gt;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能支持多次查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文档集保持相同路径（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3files\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，这样提交作业不需要包含文档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格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=T1 T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: df1 T2:df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个文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相似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0.231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个文档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空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个文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相似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0.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个文档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空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。。（直到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个文档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格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数字仅是举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ork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w:2000  york:123 city:3231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空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1750: sim=0.231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nt trials in New York City proved that all politicans are crooks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extra tax on politicians seems appropriate and is consistent with this new enlightened policy of disciplinary taxation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空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2319: sim=0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re Greenwichers than in the past have bought one or more `` second homes '' in New England , Florida , the Caribbean or New York City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`` The person who used to have two houses now has four , '' says Carl W. Menk , chairman of Canny , Bowen Inc. , executive recruiters in New York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空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。。。（直到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个文档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样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ork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 new york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aaaa 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aaa bbb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任意输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4:04:22Z</dcterms:created>
  <dc:creator>rainarch</dc:creator>
  <dc:description/>
  <dc:language>en-US</dc:language>
  <cp:lastModifiedBy>dell</cp:lastModifiedBy>
  <dcterms:modified xsi:type="dcterms:W3CDTF">2016-05-23T02:46:50Z</dcterms:modified>
  <cp:revision>138</cp:revision>
  <dc:subject/>
  <dc:title>上机课1</dc:title>
</cp:coreProperties>
</file>