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396-DE9B-4BD9-BD78-51C56300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5AB-F53D-441A-B3A7-4F4BB3B1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046-5F8D-4019-8E8E-6D54BD0C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2C8-00D6-43FA-A651-42E328DA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5F3-45E0-4B63-9910-A5E92988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B33-59CA-4B60-9456-7836E4A3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4B5-25A1-4983-ACAA-C8BA1574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36D-209A-49CA-8FB0-40E2FE92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11B-55FC-43DA-AD23-C207AD6C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1F2-A738-40D6-93EA-1CD6F862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24F-3A4B-423D-A344-5EE98AFF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8A1-C346-4A28-B752-01794794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F797-C45D-4C6E-B427-06BC94AC2F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倒排索引构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习构建基于倒排索引的检索系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时讲授学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时完成作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子任务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：建索引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子任务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：布尔查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输入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给定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个文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一个布尔查询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Or 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操作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输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倒排索引表（存成文件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ct.index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的查询结果（界面输出文档名列表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要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不要求做词条变化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iends -&gt; friend</a:t>
            </a: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等，直接用空格作为分割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alibri"/>
              </a:rPr>
              <a:t>都转成小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-&gt;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倒排索引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文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文件格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每行：词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\tDocFreq\tdocID do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布尔查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and j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or j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出为一行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ID docI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测试样例（请测试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and j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and aaa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4:   john or j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5:   john or aaa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提交要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必须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me.tx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文件说明如何编译代码和如何进行测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文件格式要符合要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输出格式要简单明了，容易操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14:04:22Z</dcterms:created>
  <dc:creator>rainarch</dc:creator>
  <dc:description/>
  <dc:language>en-US</dc:language>
  <cp:lastModifiedBy>dell</cp:lastModifiedBy>
  <dcterms:modified xsi:type="dcterms:W3CDTF">2016-04-25T03:01:27Z</dcterms:modified>
  <cp:revision>50</cp:revision>
  <dc:subject/>
  <dc:title>上机课1</dc:title>
</cp:coreProperties>
</file>