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2D2-DD2C-4488-A2F1-5470E04B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2A3-5414-4B93-84E0-66880A5F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DA9-35C9-4C49-BF18-7EE6286F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707-BD82-43CC-B180-03D6ED75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2DA-0388-449D-B1AC-38B90E3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A0D-12F7-424F-8D3E-2FA700A7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067-A64A-49B9-8AD0-A135FD37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A04-3C70-4DA9-AAE8-E3293FD8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463-A73C-48FC-9937-CC87441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BE7-3711-499E-815C-63F736F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80D-9BAC-4F6A-B8AA-86040F0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FFC-0191-495A-B352-CC079E3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E5F-0759-4CC9-B14D-48621C47AE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倒排索引构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课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构建基于倒排索引的检索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子任务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：建索引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子任务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：布尔查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入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给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个文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一个布尔查询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Or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操作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倒排索引表（存成文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ct.index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的查询结果（界面输出文档名列表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文本处理要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不要求做词条变化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iends -&gt; friend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等，直接用空格作为分割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都转成小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-&gt;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文档格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格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词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词性  词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词性  词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词性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词性对本实验没有作用，读入时请丢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例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_EX is_VBZ no_DT asbestos_NN in_IN our_PRP$ products_NNS now_RB ._. ''_''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至少完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个文档索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把索引写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.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从文件中读取索引用于查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支持连续输入查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即，输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后，得到结果；接着输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倒排索引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格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行：词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\tDocFreq\tdocID do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布尔查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or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为一行（空格隔开）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ID docI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样例（请测试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and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and aaa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4:   X or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5:   X or aaa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提交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必须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me.tx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说明如何编译代码和如何进行测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格式要符合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格式要简单明了，容易操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4:04:22Z</dcterms:created>
  <dc:creator>rainarch</dc:creator>
  <dc:description/>
  <dc:language>en-US</dc:language>
  <cp:lastModifiedBy>d</cp:lastModifiedBy>
  <dcterms:modified xsi:type="dcterms:W3CDTF">2017-03-27T14:10:31Z</dcterms:modified>
  <cp:revision>63</cp:revision>
  <dc:subject/>
  <dc:title>上机课1</dc:title>
</cp:coreProperties>
</file>