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10E7-4C93-4B81-BED9-184747B33D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8AFE-BCE0-47C5-B6F0-2F6CB077A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BF08-9E83-4595-9AF8-339E88457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E7D3-7C7A-4FEC-90FD-A05E6E2E2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88DF-8A40-4DBF-9716-ACF172F36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6906-DE4A-40BE-9916-96A3A9BD0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9976-5953-48A4-9CB1-F06462DF6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ADC-A254-447D-A4AE-DBBF31EC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923-C417-4258-A4B7-B4290A2C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44C-8B06-4A6B-8192-A278F977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126-4800-41AE-9F73-5BD6898C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E82-F116-4A5C-BAC9-167B3A9E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E03-A507-4693-89A1-6A28DFDA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795-F85A-4CB5-8AA1-A7B4F6ED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FC3-8BE6-47DF-B97C-BE75DB6E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7AA-A3EC-4D61-894E-305922A7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24C-3ABB-48D6-BE88-0CC0FC87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931-52F5-4036-B34C-D3546EA6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E25-9CA3-43BE-B871-BE61F743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7BD5-D2FB-42DC-9696-3D144A656F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上机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任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输入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给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个文档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一个通配符查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输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匹配的词项列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的查询结果（界面输出文档名列表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Calibri"/>
              </a:rPr>
              <a:t>也就是词项列表做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zh-CN" sz="1900" spc="-1" strike="noStrike">
                <a:solidFill>
                  <a:srgbClr val="000000"/>
                </a:solidFill>
                <a:latin typeface="Calibri"/>
              </a:rPr>
              <a:t>操作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Calibri"/>
              </a:rPr>
              <a:t>为简化步骤，只</a:t>
            </a:r>
            <a:r>
              <a:rPr b="0" lang="zh-CN" sz="1900" spc="-1" strike="noStrike">
                <a:solidFill>
                  <a:srgbClr val="ff0000"/>
                </a:solidFill>
                <a:latin typeface="Calibri"/>
              </a:rPr>
              <a:t>要求输出第一项和第二项的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OR</a:t>
            </a:r>
            <a:r>
              <a:rPr b="0" lang="zh-CN" sz="1900" spc="-1" strike="noStrike">
                <a:solidFill>
                  <a:srgbClr val="ff0000"/>
                </a:solidFill>
                <a:latin typeface="Calibri"/>
              </a:rPr>
              <a:t>结果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要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不要求做词条变化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iends -&gt; friend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等，直接用空格作为分割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都转成小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-&gt;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能支持多次查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测试格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一行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1 term2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行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ID docI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例子输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例子输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匹配的词项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mes janu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相关文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5 9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测试样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*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aaaa*bbbb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可能改成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cccc*ddd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任意输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问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是否采用轮排索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任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支持通配查询处理的检索系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C924755-7F5B-42B5-BEBD-29B383B74C4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85840" y="12600"/>
            <a:ext cx="8643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通配查询的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14200" y="2000160"/>
            <a:ext cx="857268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mon*: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找出所有包含以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mo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开头的词项的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如果采用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黑体"/>
              </a:rPr>
              <a:t>B-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黑体"/>
              </a:rPr>
              <a:t>树词典结构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，那么实现起来非常容易，只需要返回区间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黑体"/>
              </a:rPr>
              <a:t>mon ≤ t &lt; moo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上的词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*mon: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找出所有包含以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mo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结尾的词项的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将所有的词项倒转过来，然后基于它们建一棵附加的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返回区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nom ≤ t &lt; n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的词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也就说，通过上述数据结构，可能得到满足通配查询的一系列词项，然后返回任一词项的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D92A-C668-4359-837A-D63284CAF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通配查询的处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怎么处理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  <a:ea typeface="黑体"/>
              </a:rPr>
              <a:t>m*n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80BAB6B-2E9C-4057-9F7E-7ACF554A8B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285840" y="12600"/>
            <a:ext cx="8643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词项中间的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*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号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2000160"/>
            <a:ext cx="914400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例子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黑体"/>
              </a:rPr>
              <a:t>: m*n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方法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B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树中分别查找满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m*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nche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的词项集合，然后求交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这种做法开销很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黑体"/>
              </a:rPr>
              <a:t>如采用这方法，满分自动减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另外一种方法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轮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(</a:t>
            </a:r>
            <a:r>
              <a:rPr b="0" lang="de-DE" sz="2400" spc="-1" strike="noStrike">
                <a:solidFill>
                  <a:srgbClr val="0070c0"/>
                </a:solidFill>
                <a:latin typeface="Calibri"/>
                <a:ea typeface="黑体"/>
              </a:rPr>
              <a:t>permuterm)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索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基本思想：将每个通配查询旋转，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出现在末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将每个旋转后的结果存放在词典中，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B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树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E8D2-36FE-4B64-837E-F97246BCA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D904568-3C06-4D56-A87A-57B54DDDC3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285840" y="12600"/>
            <a:ext cx="8643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轮排索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14200" y="2928960"/>
            <a:ext cx="85726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对于词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hello: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将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hello$, ello$h, llo$he, lo$hel,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和</a:t>
            </a:r>
            <a:r>
              <a:rPr b="0" i="1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o$he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加入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B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树中，其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$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是一个特殊符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即在词项前面再加一层索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9301-E62C-4088-82B0-4191607A9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AE375D8-3015-49C3-9DDA-05D060BE05F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85840" y="12600"/>
            <a:ext cx="8643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轮排结果 → 词项的映射示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14200" y="2928960"/>
            <a:ext cx="85726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F7B4-A9DA-4F62-99BC-DCBEBAC98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326.png"/>
          <p:cNvPicPr/>
          <p:nvPr/>
        </p:nvPicPr>
        <p:blipFill>
          <a:blip r:embed="rId1"/>
          <a:stretch/>
        </p:blipFill>
        <p:spPr>
          <a:xfrm>
            <a:off x="785880" y="1928880"/>
            <a:ext cx="372564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6E9B6AC-95C4-497A-857E-BE75F7EFA5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85840" y="12600"/>
            <a:ext cx="8643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轮排索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4200" y="1571760"/>
            <a:ext cx="857268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对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hello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，已经存储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hello$, ello$h, llo$he, lo$hel,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和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  <a:ea typeface="黑体"/>
              </a:rPr>
              <a:t>o$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对于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X,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查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X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对于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X*,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查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X*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对于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X,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查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X$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对于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X*,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查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对于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X*Y,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查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Y$X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例子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假定通配查询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hel*o,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那么相当于要查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o$hel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轮排索引称为轮排树更恰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但是轮排索引已经使用非常普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6C1C-770C-45AC-A57F-6A00E8A79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AA93D226-75DC-45BE-A37F-D4EF0F1722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285840" y="12600"/>
            <a:ext cx="8643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使用轮排索引的查找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14200" y="1989000"/>
            <a:ext cx="85726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将查询进行旋转，将通配符旋转到右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同以往一样查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B-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问题：相对于通常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B-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树，轮排树的空间要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倍以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经验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7DFB-B058-46CC-ABFE-0E444841C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14:04:22Z</dcterms:created>
  <dc:creator>rainarch</dc:creator>
  <dc:description/>
  <dc:language>en-US</dc:language>
  <cp:lastModifiedBy>dell</cp:lastModifiedBy>
  <dcterms:modified xsi:type="dcterms:W3CDTF">2016-04-06T08:10:14Z</dcterms:modified>
  <cp:revision>88</cp:revision>
  <dc:subject/>
  <dc:title>上机课1</dc:title>
</cp:coreProperties>
</file>