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94E1-96FF-4A53-A0D6-640724980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C1B0-21C7-429E-A7E0-D2896EAE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4CF0-EBB9-421B-B59D-B9C88488E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5703-F303-4C06-82D6-43F5F3F19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7731-287E-4606-A835-87D98FDA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0727-C093-43A3-A61F-C1F6171F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DA32-5A41-4B96-AD0F-0D804C34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897D-C198-4CE2-8B48-922022B0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E680-E55D-45FF-B36B-BD311B58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4C3E-26F6-46CA-B8FF-25422C68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F074-3FD3-4943-8682-BF7E4387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BA18-7010-4C72-AE72-DE0CD06A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6B01-9554-4E8B-9353-9C06E103AFA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倒排索引构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任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学习构建基于倒排索引的检索系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任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</a:rPr>
              <a:t>子任务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Calibri"/>
              </a:rPr>
              <a:t>：建索引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</a:rPr>
              <a:t>子任务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Calibri"/>
              </a:rPr>
              <a:t>：布尔查询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</a:rPr>
              <a:t>输入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给定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个文档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一个布尔查询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d Or 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操作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</a:rPr>
              <a:t>输出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倒排索引表（存成文件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ct.index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的查询结果（界面输出文档名列表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</a:rPr>
              <a:t>要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不要求做词条变化如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iends -&gt; friend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等，直接用空格作为分割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都转成小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-&gt;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倒排索引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个文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文件格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每行：词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\tDocFreq\tdocID doc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布尔查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输入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hn and ja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输入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hn or ja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输出为一行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cID docID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测试样例（请测试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h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hn and ja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3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hn and aaaa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4:   john or ja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5:   john or aaaa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提交要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必须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me.txt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文件说明如何编译代码和如何进行测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文件格式要符合要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输入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输出格式要简单明了，容易操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5T14:04:22Z</dcterms:created>
  <dc:creator>rainarch</dc:creator>
  <dc:description/>
  <dc:language>en-US</dc:language>
  <cp:lastModifiedBy>dell</cp:lastModifiedBy>
  <dcterms:modified xsi:type="dcterms:W3CDTF">2016-03-14T05:38:34Z</dcterms:modified>
  <cp:revision>48</cp:revision>
  <dc:subject/>
  <dc:title>上机课1</dc:title>
</cp:coreProperties>
</file>